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29F42-E182-4B57-9CC0-CFCBBC097F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854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8960" y="3615480"/>
            <a:ext cx="854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CCD5E-E5B2-4B46-A7BB-C9AA2F435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8720" y="11872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8960" y="36154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8720" y="36154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E0046-1AF2-455E-802A-A7061E7EF4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2751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8680" y="1187280"/>
            <a:ext cx="2751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8760" y="1187280"/>
            <a:ext cx="2751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8960" y="3615480"/>
            <a:ext cx="2751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8680" y="3615480"/>
            <a:ext cx="2751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8760" y="3615480"/>
            <a:ext cx="2751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32584-6715-41B9-B5F5-A63C170C5E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18960" y="1187280"/>
            <a:ext cx="85471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854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4170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8720" y="1187280"/>
            <a:ext cx="4170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18960" y="274320"/>
            <a:ext cx="85471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8720" y="1187280"/>
            <a:ext cx="4170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18960" y="36154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8960" y="1187280"/>
            <a:ext cx="85471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F199D-BD0F-4700-BD2D-7515950BE7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4170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8720" y="11872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8720" y="36154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8720" y="11872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18960" y="3615480"/>
            <a:ext cx="854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854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18960" y="3615480"/>
            <a:ext cx="854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8720" y="11872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18960" y="36154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8720" y="36154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2751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8680" y="1187280"/>
            <a:ext cx="2751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8760" y="1187280"/>
            <a:ext cx="2751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18960" y="3615480"/>
            <a:ext cx="2751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8680" y="3615480"/>
            <a:ext cx="2751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8760" y="3615480"/>
            <a:ext cx="2751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8253E-80A6-4A90-8458-C1BC163D081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18960" y="1187280"/>
            <a:ext cx="85471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2E0AE-410E-4E0A-9989-2E4F93F9516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854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6B41C-3574-4073-AD57-F177D72167A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4170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8720" y="1187280"/>
            <a:ext cx="4170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3EAC0-D1BB-4ADD-A317-1C6BDEC685D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70839-2B2E-4C5B-9EE3-616DD4219F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854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0D930-5312-4317-A1A2-C56DF909490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18960" y="274320"/>
            <a:ext cx="85471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CC6E4-3468-44FB-B4CD-52F63C4E6A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8720" y="1187280"/>
            <a:ext cx="4170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18960" y="36154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9651D-3975-424D-95AC-4FABEB33032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4170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8720" y="11872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8720" y="36154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15EEC-A1CA-4C1B-96FA-7F55FC4442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8720" y="11872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18960" y="3615480"/>
            <a:ext cx="854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39953-E6B2-40BA-B575-5D9C3E9A7C1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854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18960" y="3615480"/>
            <a:ext cx="854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11EE5-F391-481D-A0D3-433DBE2274B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8720" y="11872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18960" y="36154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8720" y="36154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D34A3-27C9-498C-B830-65B06C5640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2751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08680" y="1187280"/>
            <a:ext cx="2751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98760" y="1187280"/>
            <a:ext cx="2751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18960" y="3615480"/>
            <a:ext cx="2751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08680" y="3615480"/>
            <a:ext cx="2751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98760" y="3615480"/>
            <a:ext cx="2751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3944D-3091-42E0-BD37-A486EA4F70B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18960" y="1187280"/>
            <a:ext cx="85471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854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4170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8720" y="1187280"/>
            <a:ext cx="4170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A152C-2AE8-432A-90BB-C31C7BA96ED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4170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98720" y="1187280"/>
            <a:ext cx="4170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18960" y="274320"/>
            <a:ext cx="85471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98720" y="1187280"/>
            <a:ext cx="4170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18960" y="36154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4170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98720" y="11872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98720" y="36154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98720" y="11872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18960" y="3615480"/>
            <a:ext cx="854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854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18960" y="3615480"/>
            <a:ext cx="854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8720" y="11872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18960" y="36154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98720" y="36154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2751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08680" y="1187280"/>
            <a:ext cx="2751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8760" y="1187280"/>
            <a:ext cx="2751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318960" y="3615480"/>
            <a:ext cx="2751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08680" y="3615480"/>
            <a:ext cx="2751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98760" y="3615480"/>
            <a:ext cx="2751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3BF7-D954-4E0F-8A19-C877221129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E89BC-72CA-415D-8051-4963E414288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18960" y="1187280"/>
            <a:ext cx="85471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827D-A15C-4863-9B3E-AD11F454A11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854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65FC-496B-44BA-9403-CE75DCEAEE5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4170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8720" y="1187280"/>
            <a:ext cx="4170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4828-2D97-4E55-8AB3-E9A21BAE17B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93AE-53EA-43C3-9261-CEF0E7D8FC0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18960" y="274320"/>
            <a:ext cx="85471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6DA9-5016-4094-8D9D-99BC4789A01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98720" y="1187280"/>
            <a:ext cx="4170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18960" y="36154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DD3A-2081-44E8-B6FE-20651411DCA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4170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98720" y="11872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98720" y="36154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95F4-DB2F-4D1E-87F4-D9BE1AF464C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8720" y="11872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18960" y="3615480"/>
            <a:ext cx="854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F75E-5EB9-499F-B62C-25E735D1389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854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18960" y="3615480"/>
            <a:ext cx="854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4829-895D-4DBA-906D-8C4575B932A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98720" y="11872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18960" y="36154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98720" y="36154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169F-AD21-4831-AA30-E3469E6A50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8960" y="274320"/>
            <a:ext cx="85471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08F12-F22D-41C9-B370-E40E779FC99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2751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08680" y="1187280"/>
            <a:ext cx="2751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98760" y="1187280"/>
            <a:ext cx="2751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18960" y="3615480"/>
            <a:ext cx="2751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08680" y="3615480"/>
            <a:ext cx="2751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98760" y="3615480"/>
            <a:ext cx="2751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4EB8-0FC2-4D44-8AA7-2C897644F64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318960" y="1187280"/>
            <a:ext cx="85471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854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4170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8720" y="1187280"/>
            <a:ext cx="4170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318960" y="274320"/>
            <a:ext cx="85471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8720" y="1187280"/>
            <a:ext cx="4170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18960" y="36154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4170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8720" y="11872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98720" y="36154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98720" y="11872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18960" y="3615480"/>
            <a:ext cx="854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8720" y="1187280"/>
            <a:ext cx="4170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8960" y="36154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335EC-41A3-4466-B9B2-84E20482759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854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18960" y="3615480"/>
            <a:ext cx="854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98720" y="11872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18960" y="36154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98720" y="36154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2751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08680" y="1187280"/>
            <a:ext cx="2751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8760" y="1187280"/>
            <a:ext cx="2751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318960" y="3615480"/>
            <a:ext cx="2751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08680" y="3615480"/>
            <a:ext cx="2751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98760" y="3615480"/>
            <a:ext cx="2751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4170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8720" y="11872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8720" y="36154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02977-EB2E-4377-B025-9396086353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8960" y="11872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8720" y="1187280"/>
            <a:ext cx="4170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8960" y="3615480"/>
            <a:ext cx="8547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42624-5829-457A-955E-9F87A8C62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8960" y="1187280"/>
            <a:ext cx="854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79c1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0079c1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0079c1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500"/>
              </a:spcAft>
              <a:buClr>
                <a:srgbClr val="0079c1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500"/>
              </a:spcAft>
              <a:buClr>
                <a:srgbClr val="0079c1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9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12600">
            <a:solidFill>
              <a:srgbClr val="0066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06000" y="6173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61E5-5B99-450B-9041-4366A31E9F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4" descr="NGrid logo"/>
          <p:cNvPicPr/>
          <p:nvPr/>
        </p:nvPicPr>
        <p:blipFill>
          <a:blip r:embed="rId2"/>
          <a:stretch/>
        </p:blipFill>
        <p:spPr>
          <a:xfrm>
            <a:off x="7359480" y="6224760"/>
            <a:ext cx="15242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348240" y="5943600"/>
            <a:ext cx="2514600" cy="66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8960" y="380520"/>
            <a:ext cx="85471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9c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79c1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1936800"/>
            <a:ext cx="9144000" cy="3813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Aft>
                <a:spcPts val="1250"/>
              </a:spcAft>
              <a:buClr>
                <a:srgbClr val="0079c1"/>
              </a:buClr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Aft>
                <a:spcPts val="1125"/>
              </a:spcAft>
              <a:buClr>
                <a:srgbClr val="0079c1"/>
              </a:buClr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Aft>
                <a:spcPts val="1001"/>
              </a:spcAft>
              <a:buClr>
                <a:srgbClr val="0079c1"/>
              </a:buClr>
              <a:buFont typeface="Wingdings 2" charset="2"/>
              <a:buChar char="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18960" y="1187280"/>
            <a:ext cx="854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79c1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0079c1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0079c1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500"/>
              </a:spcAft>
              <a:buClr>
                <a:srgbClr val="0079c1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500"/>
              </a:spcAft>
              <a:buClr>
                <a:srgbClr val="0079c1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NGrid logo"/>
          <p:cNvPicPr/>
          <p:nvPr/>
        </p:nvPicPr>
        <p:blipFill>
          <a:blip r:embed="rId2"/>
          <a:stretch/>
        </p:blipFill>
        <p:spPr>
          <a:xfrm>
            <a:off x="7359480" y="6224760"/>
            <a:ext cx="1524240" cy="403200"/>
          </a:xfrm>
          <a:prstGeom prst="rect">
            <a:avLst/>
          </a:prstGeom>
          <a:ln w="0">
            <a:noFill/>
          </a:ln>
        </p:spPr>
      </p:pic>
      <p:sp>
        <p:nvSpPr>
          <p:cNvPr id="84" name="Line 5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12600">
            <a:solidFill>
              <a:srgbClr val="0066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2"/>
          </p:nvPr>
        </p:nvSpPr>
        <p:spPr>
          <a:xfrm>
            <a:off x="318600" y="6173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DF68-8FF6-4908-9D0D-AA3160E837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1940040"/>
            <a:ext cx="9144000" cy="3811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8960" y="380520"/>
            <a:ext cx="85471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9c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79c1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348240" y="5943600"/>
            <a:ext cx="25146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8960" y="274320"/>
            <a:ext cx="8547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18960" y="1187280"/>
            <a:ext cx="854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79c1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0079c1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0079c1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500"/>
              </a:spcAft>
              <a:buClr>
                <a:srgbClr val="0079c1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500"/>
              </a:spcAft>
              <a:buClr>
                <a:srgbClr val="0079c1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"/>
          <p:cNvSpPr/>
          <p:nvPr/>
        </p:nvSpPr>
        <p:spPr>
          <a:xfrm>
            <a:off x="0" y="1008000"/>
            <a:ext cx="9144000" cy="0"/>
          </a:xfrm>
          <a:prstGeom prst="line">
            <a:avLst/>
          </a:prstGeom>
          <a:ln w="12600">
            <a:solidFill>
              <a:srgbClr val="0066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3"/>
          </p:nvPr>
        </p:nvSpPr>
        <p:spPr>
          <a:xfrm>
            <a:off x="318600" y="6173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761C-7B6F-435A-961D-55D095EAD4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" descr="NGrid logo"/>
          <p:cNvPicPr/>
          <p:nvPr/>
        </p:nvPicPr>
        <p:blipFill>
          <a:blip r:embed="rId2"/>
          <a:stretch/>
        </p:blipFill>
        <p:spPr>
          <a:xfrm>
            <a:off x="7359480" y="6224760"/>
            <a:ext cx="15242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18960" y="2622600"/>
            <a:ext cx="854712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9c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79c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6348240" y="5943600"/>
            <a:ext cx="25146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18960" y="380520"/>
            <a:ext cx="85471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UNC Modification Proposal 0229 </a:t>
            </a:r>
            <a:br>
              <a:rPr sz="2800"/>
            </a:br>
            <a:r>
              <a:rPr b="1" lang="en-US" sz="2800" spc="-1" strike="noStrike">
                <a:solidFill>
                  <a:srgbClr val="0079c1"/>
                </a:solidFill>
                <a:latin typeface="Arial"/>
              </a:rPr>
              <a:t>Potential Implementation Timescale</a:t>
            </a: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24000" y="260280"/>
            <a:ext cx="8547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9c1"/>
                </a:solidFill>
                <a:latin typeface="Arial"/>
                <a:ea typeface="ＭＳ Ｐゴシック"/>
              </a:rPr>
              <a:t>Modification Proposal 02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5:45:19Z</dcterms:created>
  <dc:creator>Emma.Smith</dc:creator>
  <dc:description/>
  <dc:language>en-US</dc:language>
  <cp:lastModifiedBy>phil.lucas</cp:lastModifiedBy>
  <dcterms:modified xsi:type="dcterms:W3CDTF">2010-06-14T14:45:16Z</dcterms:modified>
  <cp:revision>30</cp:revision>
  <dc:subject/>
  <dc:title>MOD275 Business Rules</dc:title>
</cp:coreProperties>
</file>